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661-D508-4797-BB0B-676C4654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A69-06D3-4E42-8B6A-0D3CF338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4DB5-1103-4829-8B8E-D6B1BF12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7D4-3CF4-4FEE-A7C2-A18818B8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5772-4854-4AE7-8360-48BD7E5F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DDCA-A302-48BB-8D17-12FEDFC1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5D84-D3DC-4742-821D-EB51DC07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28AD-0363-4D7C-9880-FEB8651A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35C1-0BE6-4A83-AC67-1CA6A041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8F91-3A57-4140-AF7C-F544067F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B7D4-ECE9-4CC6-B802-BF6780AF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4ED-6172-4B8E-B151-23EC3B8A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49A4-3ABC-448A-B5CC-333C7F9D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D076-18A0-4A50-A14F-34B21137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E6F7-B625-4B13-B748-933D7C9A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8C74-72ED-4361-A1FC-54A89452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46CC-899D-492A-B16A-51EA28BE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C05CE-4176-4FF0-A221-C1CA789A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CDDE4-56B4-419B-BADB-1E3C9526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A6CB7-32DB-40D3-A5C0-F2ED9B62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4EE1C-BDE2-4B1E-AA8E-65798084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6988E-D6B8-4186-99B5-11DDCFB1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0D78-7EC5-4950-97CC-FE38F104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A07CA-7F9D-4DEC-9715-C7DB9C62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D136B-170E-4FC5-B7F1-2076436D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9730B-D21D-4D8E-804B-8AAE8C21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A9744-8476-4DE0-AD92-69932777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96129-ACF8-4847-8C14-08531992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E358-609B-4B3A-AFC4-90AC49B8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02074-DCA3-41F6-9745-DC386031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8246B-8B38-4A95-BFF3-C560E11E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F59C3-0730-4E02-81D3-73CF203D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978AA-BC01-416C-ABC4-91CA713E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226E-184D-4D51-973A-1E374BDB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4AE2F-BFE0-4177-A527-67349859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C00EF-F377-4BA6-BB27-C89168B8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7F323-44B4-4690-9E2F-0B0E197B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58E7C-8904-4572-90C9-F9F83FA6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C8F04-7B6E-4407-AB6B-82FBD096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A9292-3539-4E15-A78C-D96EF873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C67E2-8925-4282-87D4-20C71FC7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F5364-A67C-409B-9F47-55B3E3AE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C1697-7299-43C9-8E5B-A0582163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B93-5AA0-4416-B3E7-876AC464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692-4E5C-4E51-B1FA-0467CCD3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21A-EA5C-44DF-9E16-2E97BC7B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A75-9F6A-478B-9446-9E815ACE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19F5-2FC7-40FF-B019-F85137D2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28EE-EC9E-4509-8C41-A566CEC77D2E}" type="datetime2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8B1A-AEB4-47D8-8C43-54AC916287BB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DD6C-20AE-465B-B028-01B80732FCC5}" type="datetime2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8C41-7E8A-45FF-A695-35C93EA05A94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53A2-D191-4450-B9DC-79A7A6FB9905}" type="datetime2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D29D-54C7-4C7A-9A30-BB8C9A963763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75D2-1569-47D4-8874-A01BED8C27F7}" type="datetime2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Created by Mr. Lafferty Maths D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AB2E-ED86-424A-8868-DB33A017796E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A7D4-C3B2-466D-883B-95F761DDF137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675440" y="23446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Learning Inten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6115320" y="234468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uccess Criter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5057640" y="3992400"/>
            <a:ext cx="38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2.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Be able to collect like ter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977760" y="3005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To explain the process of tidying up expression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5057640" y="3005280"/>
            <a:ext cx="40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Understand the term like term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Rectangle 14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5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2000160" y="687240"/>
            <a:ext cx="538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Collecting Like  Ter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6C46-569C-4813-8000-AB99969AE392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7"/>
          <p:cNvSpPr/>
          <p:nvPr/>
        </p:nvSpPr>
        <p:spPr>
          <a:xfrm>
            <a:off x="1729080" y="2104920"/>
            <a:ext cx="6288840" cy="520560"/>
          </a:xfrm>
          <a:prstGeom prst="rect">
            <a:avLst/>
          </a:prstGeom>
          <a:solidFill>
            <a:srgbClr val="6bdbf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CAN ONLY TIDY UP “LIKE TERM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Box 14"/>
          <p:cNvSpPr/>
          <p:nvPr/>
        </p:nvSpPr>
        <p:spPr>
          <a:xfrm>
            <a:off x="1234080" y="2895480"/>
            <a:ext cx="21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, 3 , 5, -6, 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Box 15"/>
          <p:cNvSpPr/>
          <p:nvPr/>
        </p:nvSpPr>
        <p:spPr>
          <a:xfrm>
            <a:off x="3696120" y="2895480"/>
            <a:ext cx="52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re like terms simple num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Box 16"/>
          <p:cNvSpPr/>
          <p:nvPr/>
        </p:nvSpPr>
        <p:spPr>
          <a:xfrm>
            <a:off x="1336320" y="3822840"/>
            <a:ext cx="16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, -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3733200" y="3809880"/>
            <a:ext cx="31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re like terms i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Box 18"/>
          <p:cNvSpPr/>
          <p:nvPr/>
        </p:nvSpPr>
        <p:spPr>
          <a:xfrm>
            <a:off x="1409760" y="4610160"/>
            <a:ext cx="18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-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Box 19"/>
          <p:cNvSpPr/>
          <p:nvPr/>
        </p:nvSpPr>
        <p:spPr>
          <a:xfrm>
            <a:off x="3785400" y="4597560"/>
            <a:ext cx="32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re like terms i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20"/>
          <p:cNvSpPr/>
          <p:nvPr/>
        </p:nvSpPr>
        <p:spPr>
          <a:xfrm>
            <a:off x="2338560" y="5524560"/>
            <a:ext cx="4548960" cy="581400"/>
          </a:xfrm>
          <a:prstGeom prst="rect">
            <a:avLst/>
          </a:prstGeom>
          <a:solidFill>
            <a:srgbClr val="6bdbf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NOT the same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Rectangle 21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2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2000160" y="687240"/>
            <a:ext cx="538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Collecting Like  Ter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DE61-1DBA-4E34-AB93-CED475FFA425}" type="datetime2">
              <a:rPr b="0" lang="en-GB" sz="1200" spc="-1" strike="noStrike">
                <a:solidFill>
                  <a:srgbClr val="d1eaee"/>
                </a:solidFill>
                <a:latin typeface="Comic Sans MS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2000160" y="687240"/>
            <a:ext cx="538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Collecting Like  Ter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Box 14"/>
          <p:cNvSpPr/>
          <p:nvPr/>
        </p:nvSpPr>
        <p:spPr>
          <a:xfrm>
            <a:off x="1176840" y="2895480"/>
            <a:ext cx="18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2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Box 15"/>
          <p:cNvSpPr/>
          <p:nvPr/>
        </p:nvSpPr>
        <p:spPr>
          <a:xfrm>
            <a:off x="2992680" y="2895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GB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16"/>
          <p:cNvSpPr/>
          <p:nvPr/>
        </p:nvSpPr>
        <p:spPr>
          <a:xfrm>
            <a:off x="1211760" y="3728880"/>
            <a:ext cx="29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x – 4y – x – 2y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17"/>
          <p:cNvSpPr/>
          <p:nvPr/>
        </p:nvSpPr>
        <p:spPr>
          <a:xfrm>
            <a:off x="4102920" y="372600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x – 6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Box 18"/>
          <p:cNvSpPr/>
          <p:nvPr/>
        </p:nvSpPr>
        <p:spPr>
          <a:xfrm>
            <a:off x="1235520" y="456408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x – y + 6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Box 19"/>
          <p:cNvSpPr/>
          <p:nvPr/>
        </p:nvSpPr>
        <p:spPr>
          <a:xfrm>
            <a:off x="4481280" y="455436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10x</a:t>
            </a:r>
            <a:r>
              <a:rPr b="0" lang="en-GB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 – x - 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Box 21"/>
          <p:cNvSpPr/>
          <p:nvPr/>
        </p:nvSpPr>
        <p:spPr>
          <a:xfrm>
            <a:off x="1152720" y="191772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Box 23"/>
          <p:cNvSpPr/>
          <p:nvPr/>
        </p:nvSpPr>
        <p:spPr>
          <a:xfrm>
            <a:off x="1172520" y="5397480"/>
            <a:ext cx="33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q – 3q + 6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24"/>
          <p:cNvSpPr/>
          <p:nvPr/>
        </p:nvSpPr>
        <p:spPr>
          <a:xfrm>
            <a:off x="4427280" y="5384880"/>
            <a:ext cx="17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12p</a:t>
            </a:r>
            <a:r>
              <a:rPr b="0" lang="en-GB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 – 4q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Rectangle 20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1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81BF-4745-41F5-8E49-C1858CE9CDBA}" type="datetime2">
              <a:rPr b="0" lang="en-GB" sz="1200" spc="-1" strike="noStrike">
                <a:solidFill>
                  <a:srgbClr val="045c75"/>
                </a:solidFill>
                <a:latin typeface="Comic Sans MS"/>
              </a:rPr>
              <a:t>Wednesday 29 July 20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2124000" y="5345280"/>
            <a:ext cx="5626080" cy="9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352600" y="2220840"/>
            <a:ext cx="5195880" cy="3141360"/>
          </a:xfrm>
          <a:prstGeom prst="rect">
            <a:avLst/>
          </a:prstGeom>
          <a:solidFill>
            <a:srgbClr val="0076a3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Now try page 29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Ex 5.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Q5, 6,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Page 30 Challenge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14760" y="1327320"/>
            <a:ext cx="32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tters and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Rectangle 12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1004760" cy="4096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7"/>
          <p:cNvSpPr/>
          <p:nvPr/>
        </p:nvSpPr>
        <p:spPr>
          <a:xfrm>
            <a:off x="797256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2949120" y="717480"/>
            <a:ext cx="30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llecting like ter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8:17:26Z</dcterms:created>
  <dc:creator>Bernie Lafferty</dc:creator>
  <dc:description/>
  <dc:language>en-US</dc:language>
  <cp:lastModifiedBy>Caroline</cp:lastModifiedBy>
  <dcterms:modified xsi:type="dcterms:W3CDTF">2009-05-25T20:43:30Z</dcterms:modified>
  <cp:revision>72</cp:revision>
  <dc:subject/>
  <dc:title>Slide 1</dc:title>
</cp:coreProperties>
</file>